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109E-1682-4F3B-ACBE-493D7336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61D9-2B69-4AB7-BA0C-BCEDB70E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2E575-7133-493B-897E-EBFD56D7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4FB05-3198-4167-96DE-30F99FBF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71727-895C-42FF-9BF2-20467FED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CFF17-9A31-4A28-932E-6EA8B3D6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0F5EE-0959-4175-943D-ADFE32AE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BB283-FAAA-4A47-AC72-F04E08DE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D549A-4AAF-4ABA-8A18-7325C280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3805D-9725-46A5-9773-DBF8B816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982AD-3363-4285-938C-A71697A7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BBE60-743C-4D5B-96FA-09A285FF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3552-1FFF-428F-98AE-15B06B12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8CDFA-A6FC-4D66-B015-7414C8FB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CACC7-89A5-4A58-9C3F-9D54304B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49C07-FF17-413E-8563-2FF279E2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200A6-814B-432E-B17F-B25E6A33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63F1E-B4BD-4C4C-B28A-61C604B9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5B1C0-DA03-4790-9489-A938001E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F4EA0-3A3B-40AC-864C-0AB25FD4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0E8DA-B354-4734-AD82-49962F91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DE77D-58D0-4E0E-8312-7CA52884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2120B-B96F-48A5-84BD-1A4E2DF0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8EC4-5540-4AD9-A09C-344E5FBE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D2A04-F565-4FAD-8995-D3452032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F06CB-7BB6-4B22-BFD8-AC852897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1DB05-C39E-44E4-A8E5-8B928826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31F3D-1CC4-4A72-9731-033773E0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204B4-491D-40F7-AD40-59CF1BEE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B4BBB-E06A-48A8-A69E-BCF0E238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1D8F4-E948-4AF9-957B-9C133DDE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D432E-167B-44C5-B5D4-CE3B3801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9EB5B-C376-4D2E-BAF2-DF27A820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9BC44-C160-4756-AA8F-609A8C0C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6089-D7EA-4E5D-B6E7-CD25F42B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A84EA-5D59-4F45-B6C5-08330494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31FB5-E2D8-41FC-9CA7-5272706F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924AE-EDA5-4E7C-A3C2-ACCD2561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6EF00-794D-4A79-9941-A6E7897B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26548-1E01-4422-B32E-C276E2B9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8F739-D399-4CA4-B25F-B740B797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E61EE-6985-44D3-9658-9DFCC822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E7FD5-B66F-4621-B069-0EB808D4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9FCB1-D888-4B6B-BA0F-6A975D17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4167B-CD78-4D74-9758-6BCAA750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96DE-279C-4DC3-A05F-FAD81D50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B82DA-8E62-41EE-B5D4-F8E8FB76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FC9BC-2098-4777-9F8B-A894CA34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34427-CB85-4EE3-83D5-210EB471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5D5E8-5A44-4502-ACED-3CE80F60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E9A19-8EEB-45E6-A4C3-C12DB52B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D7E801-C96D-4E10-933E-36B9C6FD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8AFF21-130A-494C-9F3F-B08CF44B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61DABC-0F8A-40A5-9036-C065B8CF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0D4868-035A-4403-B785-F6148B64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D03DC-03AF-452D-B95C-7576EB93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712C-3E7E-426A-9C7A-0A9DC44B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70F1BD-CB8B-4D6A-9850-E7E63D7F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55A66F-003F-46EA-82A6-B62A87BC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73421C-9679-4EDD-BAAC-C5EE11F3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5DA79-96AE-493D-B1B7-5023ADE4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8D53B7-E894-4938-B38C-2231259F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6BD735-4F2A-4738-A81F-CE86CAD5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7B3969-F39E-4022-AEF7-27EC36E2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0566B0-50C7-4310-B1F9-263A49BF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5E3D27-9218-49F3-9143-221BE103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BC2013-D41C-4984-A2D3-8B93207C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70A2-2BA6-420B-9867-1422056A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134F6E-CA77-439B-9316-B19DAB0B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94BD4-2C72-4210-A344-1E6E9CCC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C5AF48-3325-4961-91CC-80D6C550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E5A970-42F4-40E5-BD86-4119BFF3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6FCAF3-4CD5-4DF1-AE78-182189DC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C2C34A-8DCD-471D-B125-B39801CB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54670A-3E06-4BD5-8C53-1DA5BA4E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B23ADD-DB4D-4EB5-B62A-2E5D3C19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264A31-820B-482F-A6DA-AE40D1C7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E66B83-244A-44F6-805A-3BF562C9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8D46-867B-4525-AE63-137D7989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60130B-6005-4E0C-9BCF-2201EEFD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60BB97-35A6-4C44-A882-54D674D7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848CD1-7D15-4B06-8877-3991F4E0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8225BB-A034-4F82-AA32-D72EAB9A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2210C5-8BC4-48C2-AB50-2B44BDF2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C5CE02-C7E9-4BF3-BF9E-5FB93CEF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0BB9F6-0501-42C8-8A88-8A70EDEC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CD90BB-66AE-4697-93E4-B1F4C60A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A50B34-A246-4252-8F7E-98C0407D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0060C1-E214-4A02-B833-2CFAD4E7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0413-9887-4A40-8D7E-8411DBE4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925D80-5794-4F21-A2C4-F42B5EE71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FB901D-3C29-4716-A085-D13EB891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1296F9-1D9E-4209-B0B4-4EDE80FA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094A30-F79B-450B-B6A6-5753FF6C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4CF642-9AB0-4579-97CD-D4455D3F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7B9527-2E55-4CEB-941B-4B879DC7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6CEC40-F1CB-4DB9-BDB4-4EC5E576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836396-9E80-43DD-B7F6-EC101AFD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D9F072-4927-4791-841B-C95C0EDF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D8098F-B16F-46CF-A911-AF67ED65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CABB-7165-49A0-9840-3F5B7268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B58E70-91C6-47BF-A126-A1C92E51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FDFC30-3A73-4D06-97F2-18B088EF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92F14C-D26C-475D-9152-0B1A7C89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57AB5A-33B6-48F5-AEC3-2B07B5BE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FC0DC5-B7F6-40F3-B412-BBE1B1A3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705373-C1A3-4EEF-A952-646E5AE4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ECED2D-7F3C-4B4A-B397-5F53B852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4BE00C-C5F7-4FB2-AFC0-954E19F0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A007A0-0312-4419-AC4F-74A5D1EF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AB51DF-8ECA-47C1-9D8B-68AF5AFA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6634-15AE-4D29-905B-E3E096AD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2F13-EA71-4A68-8BD0-7188661E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17AE69-3CF0-4EFC-8415-64106B61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D55909-8A28-4B92-B2A2-356140E6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DBAB2F-6898-40E0-A8E1-FBE69C64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29E227-C270-4341-BDF1-1500F41C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89AABD-27AF-4F33-8C81-2AC83490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D28311-7559-46E6-AAC4-D659FE33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0B5D50-E58D-4EC6-8F27-FBDA8B02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4CC4CB-BEC1-4ED6-9B9E-BFCB7DD8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CDBE53-3DE5-4E07-A3E7-2E720E65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3EB9E3-5135-4982-BDAC-B079C8DD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CA83-939A-401A-BF26-D52481AC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670D87-36F3-4454-B3C1-FDFFF184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4790CA-24AA-4CCF-82BD-BCA4C74A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EA6CD8-FE77-40C9-A4C0-95095777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C5BCF7-0836-4E28-9182-59CACE34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E000E9-EC2B-4A6A-9181-5057170B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058EF2-4979-4F8F-9EAD-F9E2FA5C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78C8E9-2489-4629-9FC3-417AD760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E19F09-9B67-4DCB-9B18-7A91E5E3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AEEB6C-2C07-4DFE-A55E-AD9E52D3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1B9561-F0EF-4C2C-904F-E19F588C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8F47-942B-4FDA-A0CC-3CEDD2D3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D9A8E7-BDB9-462E-BBE4-40C44709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A33A2A-A878-4178-A019-9CD50CFC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F8A93D-97FA-4DE7-96B6-309F1BEC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B28833-FB27-4969-BB93-CB3326CB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878E28-8A36-40BC-BF27-8853FB39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A6D771-8097-4F52-8CC1-CB383300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D6180B-3648-4ED0-821C-41744D76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EA101B-AE98-41FE-B1CD-1ABF248D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DD99C8-B9F8-4973-91D3-67FF915F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96BDAB-82A3-4638-B573-A01A800D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6814-15E5-485C-865B-2CFBC32F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455968-24E6-4561-90D2-CA6497EF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DE4D16-DF36-41C3-AAA8-53B91039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F09848-6079-4E0B-9A31-3DCC7A8A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7A033D-59A2-49C9-B979-0BED9DAC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D8B0D4-C693-474F-9E4C-7B4CD13F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7DB287-9C45-4594-8CFD-2FE7A3FD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855AD3-A1AC-4520-9CDD-89C2BC88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59748F-3B2A-4574-86D0-99EE599D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BBE8DD-5AEF-4672-BC6D-A2985C61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0A9F60-6A31-45A8-A59F-25B8E419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E259-4724-42EC-AABF-015E2644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5FD8B5-240C-4AA8-8F1B-CFD23FBE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AB2AAF-75BA-4497-BD7E-687F80C0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96FA48-3555-4858-B67F-4138B225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1E30AF-2CC4-420B-A7F1-C5C9BDBD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C63276-946F-4101-8877-57CD0F87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483624-3A9D-4BC7-A833-746AFCA3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CB9F0C-A31A-42D5-B6C1-1CCD9AA6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6A1EC6-8D26-46A4-BD7E-3FC74B6F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5E1E60-F129-42A0-B954-78EAF3EE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EAFD23-3E3C-4F42-A9E3-2D5250FF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545CA-03D4-41F8-8A92-06EF2C8F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3869BA-7066-4628-A467-810F1382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AFA761-07E5-4DA3-9A42-118A9C53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23CEB9-3574-4683-839F-1B3647EB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00E991-9FFD-4E10-AE80-4396048C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6351F7-DA09-43E9-B0BA-4A5AE4BD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FF8DD7-3EA6-4BF8-AE55-1BC4FF78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053026-BC17-4EF6-940D-32ACFD7B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EC4CEF-BEC8-4C66-B92E-EA615032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ABFA90-4EB6-4FFF-86F1-1CA83B83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5FDACF-B6AF-4466-AE8D-AE6C2DDE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56A8E-C8EC-4F7D-A106-8845952B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BA73D8-4CF5-4C6B-96A8-B43C0BD8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F6757E-F1B3-412C-8598-0841C284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D73E47-D54E-4D81-AE89-D69CB3B0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2B0BF3-0CA1-4F13-A2A8-6A8F5FCF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4A2135-79BC-4CC3-AE01-0AE8E672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DB8291-EB45-47E2-84F0-28B635C6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E58F6D-E04E-41C7-BF5C-EEA5CFF0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7446A4-65A1-41A6-ACAB-3A7356FE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217720-E58F-44A6-BA7B-D71B2DAD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6977C7-0474-407F-935D-C68871E0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1EC71-B3EF-4F40-B730-2B1E250C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AD8433-8983-4A06-B07D-F5D9D04B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E0DA0B-B148-442E-A1FE-5DEF933B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9F233D-67C1-4B7F-BD37-4115A05F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365873-C1A3-4107-9560-8D925599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192A6C-FEFA-4D97-B48B-5EC49825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0E8D5F-3D81-4DC0-AEB4-08685344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B3B809-4A50-47F4-866B-24904386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62971D-A41E-4CEF-8D66-9D20EC02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412703-1054-4843-91F8-850AA2CA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5A5A9E-D255-41BA-B37F-5F465930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6A446-3F02-4EC8-8081-562D9056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ED9C7D-1424-4026-9612-6A9FF437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24CF0C-2976-41FA-BE06-73D35BCD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DEBD4C-C15C-427A-B45C-6F012895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F703AD-7238-4B50-AD21-57098DC0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10BC13-687B-497B-BB6A-1B5172AE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A7FD5D-FA26-4F5E-B9B2-4C32C1F7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90CEA6-686B-4C1E-9A5B-B397123D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028121-9406-49DE-AE1E-7D2139BA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4B6126-44CA-405B-875E-9ABA2B61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713074-32EC-4E6B-A743-3EB0DCEA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0D254-5855-4696-8023-E6C5A0A1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B92A4F-8AE7-4453-BAB5-89E3D0E9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B6170D-0579-40A3-961F-548563AF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B3E2FE-51E4-4857-B1B7-7F6CBE68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7D0A67-AEB8-4349-A0C2-F732B8FC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1E1052-F50F-423F-B0B8-C19AC892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0800E9-2743-4028-BDA3-D534F744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0A91E5-E235-496F-ADE1-86B4968B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964F22-7778-4737-90B3-81E27BEF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D658A5-C35A-4703-9665-C90C1502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F55F0C-6E20-421D-86EA-8BEE5574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1E6D-B9CC-4C7B-A457-19885BE9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AEC3D-EC50-48C8-BE35-C00C9432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A7AD0D-35E0-4EF5-84C4-FE3C7C70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D7B7C7-560B-4B60-97AD-FC975A84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F7C946-9225-4EA7-9E68-95BBDAF7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D01E30-6961-48B8-AD86-4DEAE84B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4691ED-D548-419C-B7FF-39E17F95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43652D-B416-4194-9768-9E05F8F7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19193F-FE6E-48EC-8A4C-A64C983E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FAE59F-9841-4462-B0C5-3C771E93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0C0377-B984-4800-AC52-494C3E65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63C71A-67AE-4EE2-A6FC-8130CCD6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0E690-0C0B-4EAD-9E3E-61463DBC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2861DE-901C-4C8F-A76A-6E0D1868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8EFCD9-2740-4F2B-B5E5-ACBBF7AF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179B34-CCBD-46C3-9CCE-75A5C132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379322-7232-4C2D-9C8C-BC760013E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ECD50B-C9E3-4172-818A-B5962FA4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E9FE75-F7AD-4E48-97F0-E706E223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2551CB-CE33-4A60-934E-A3A9A970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D94A87-F7CD-4196-81EA-11109CBC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1475E4-380B-4A1C-AFB8-75B34EB2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302584-844D-480F-9DF1-8C493E8D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6AF1E-9535-4163-B683-6DB85EF4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408C31-9535-427D-AE7E-603E2EE6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24D515-7971-4598-AD4C-79A593D8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27A59A-0E71-417E-9686-171427A8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89BE70-AC31-43D8-9014-B06819FE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46B2AC-9B4D-4929-BB2D-AB0279AA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184512-2386-4143-9AC1-4F1AF622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26697C-F97D-4761-896B-DD4D9A6E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AC73BB-424E-4FA0-8E20-54F13B88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4AF843-C4DE-4747-B906-86FC7A8A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DF0DD0-A3DF-436E-B52E-61A5B116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C1879-4790-4219-A1F4-5F08E684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B7A918-D4FA-4665-8540-FDA9B263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CF9F6E-A16B-4497-BC61-6A8776E8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1B62C4-D147-4F45-B76F-C4DEB8A2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0BDB61-919E-4DAD-B5AE-A2B8927A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427AB6-A5EE-489D-BF16-203134B0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E92432-C506-49FE-A90D-975727A0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505358-42D7-4A7F-9E33-4EA08D91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23F67D-540D-4B3A-AFD8-A93A88C8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DA8BEA-926D-4769-9C7F-A291DB24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B494A0-5B4A-4784-B7B5-027BD993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89FC5-B2EB-4A1C-BDAE-71DC35E6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6EC135-F911-489E-8719-3D61405E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B6EB3B-F7A6-49A9-9835-1EB69C17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8CB200-28FB-4702-BA8B-BF3768D1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F9E234-FDC7-4D95-9798-F5528AE5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70B9FC-7763-4764-8BCE-F000D1C2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AAB255-DF3B-426B-AAED-713AC404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55AC50-DB37-4AD3-8282-6FEEA8E9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13BB80-BE9D-47F7-BE9A-6586BCC6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236A7F-D0E5-4515-9205-1D2ACEFE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C0F6402-72A7-44EB-8C42-73001615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3DA2C-033D-4AE9-9CCC-F17606AC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D88DC1-0067-484C-BDA7-C7102A5B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19C595-7033-4865-81AF-E342C213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39279E-FC94-4771-A5E6-9A5F609C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367302-C6C3-4A8B-800B-AF977672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90A1E5-654E-494E-9C24-C329D142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E0B050-625C-45CF-9DB7-2EEDCA9C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8D7757-3717-4C1F-A4FC-73085DC0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A80DAF-D699-4FD4-9356-124D9786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0ECF56-EA9C-44DB-9F31-05FDB5CB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CC8F7B-F349-4CEF-BBB9-DAF2C5CC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973F2-B19B-4702-97CE-217207F1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89A1BF-6B58-4FDA-A747-CF5DB042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DDC15A-2545-4A9E-AA3C-B09D0154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62279A-5A46-4896-8B7B-D50482A4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5D99C88-43A1-453E-871A-3B93E109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6D6DCEF-BEBC-4E45-BCB3-8727C58A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F21D38-04BA-4313-A4A1-5227E46F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148A53-27EB-4E61-A237-6BAF00FA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DC2DC4-D7F0-4D24-890A-84EB4AF7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05F134-36C1-44D7-BCEC-55657B1C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C87D98-F204-4E72-BFA8-170F7F71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8D78F-0354-403E-9843-846E4845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A2208A-FC98-44D3-A8F1-3232434A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EE8C97-F19E-43C9-BC37-7D3C11CF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CADCB5-18AA-402C-9E8B-33CB2D2F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182B18F-E355-463C-A895-EE460FCD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D901AF-63AE-4027-8668-B52284BF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E0584DE-A1CE-4EEA-9671-AF308334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F01588-6818-4CD3-A44C-F89EC856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B1C6F8-BA14-417B-8D92-E0B3825E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3408149-D13B-424E-BC9E-CF1D16DE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AB5D0ED-5141-4804-8816-B8924FE5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B8684-4988-47EA-A665-5C53F31C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C69F5E6-991E-4468-9DEE-BB101AC0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5304CF4-EF45-4C97-81E7-BCEF21F0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E4745F2-7F04-46B8-944F-0A1C9D87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2A7D71A-EA8D-41F5-BA32-308BE6E2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F03888-DA0D-416D-B44E-5FAEF4EE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E814A-0BEB-48D7-A020-E5B6CAA5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13C-DC18-47A6-9F9C-72D525BA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AC6AA-389F-4FE1-A30A-E6F56486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2E468-410C-4F27-8F1D-2CF6FFAF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14FBB-A393-48F5-9884-2F27081B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66F4A-8558-4294-8FD3-8A743C17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B5757-CF0C-4868-90BC-67FFC532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6A2E1-16B6-4A9F-B0B5-C5596DDB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9FB84-A644-49CA-A087-BA20D42E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E5FE3-39DE-4F11-8639-8A06D9B8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619C6-1254-49DB-B06B-FFF2585E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65529-D71F-4F93-815E-B1B1E60B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5941-549C-4DA8-B29F-6FD09A66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05486-611C-4757-AEE8-7255775D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78092-CB18-46CF-8CB9-F2E05989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C29C5-8A09-4DFF-87D7-A21BC947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E500E-E8A9-4537-B0B7-D36AFD27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B7EB7-9B2D-444B-960D-CAC1F330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16E25-ACBA-43DD-A989-29A637DC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48F94-B6AE-4E8A-85BD-40F422C9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3D823-135F-47ED-854D-E3FADD69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1E034-7532-4AD2-8315-3A9CA37C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CBFFD-6881-483C-A868-69239159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B22-A37B-4D4A-9B24-2FB09336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97F3C-5AD2-4613-85A4-CD7BD13F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6A5D4-AA0D-473D-828A-7370C1EA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9E088-22D0-4EF0-B717-93A5E174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B3FCA-DCFC-40BB-B0E4-6C251CE2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1D17C-88A4-4B94-99FA-7DD613F0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7FD5D-58F5-45BB-85CD-E052CC22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5B157-6133-4EFD-94DE-A9829320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5FD44-8B7F-41AA-83CF-18A3BEDE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3CB8B-4464-4A40-93B1-11CC1854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A5BD6-37DD-4D21-8E1C-81A80EAA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2923-D93C-4442-9AE9-043C5894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122C6-F625-4083-955C-322EB4FD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F2C71-28A1-42DA-80AD-E95C269A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D2F1A-4DBC-432B-A04B-0511FB3A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9118E-10C2-4420-98AC-F2962E10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7DCC1-27CA-4F05-B3E4-139D8753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76F02-65C9-4FB7-A470-CCE17854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877AC-3BFC-42FB-B123-4028BC47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A71E2-5061-41D2-BF64-F0DC15FF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6ECEF-883B-4ABF-845E-B97957B0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47987-2D3D-42F4-BB81-7AE82688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982F-BC6B-44E0-BC44-7993BB80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8D837-EA93-4A57-8139-45987806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9AA61-750B-472D-BD47-FCC79FFE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5EBF5-16E9-4E78-978A-F977EB8A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5B66F-8D95-458C-A861-6D137629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43EA8-B864-4690-A537-6AD9143F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E8D75-7DB4-4E69-8FE2-C4AA3AF5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AF4D9-7950-4D42-A5D4-7FB38BBF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2CAA9-9B9C-49EC-A22C-C1442250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46B05-68CA-48B9-B1E2-1C687556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3E648-0E30-413E-8AEE-53CD7A31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6C51-2F11-4AED-9D7D-09742F54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366BB-4C61-474A-AB31-C525F805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C7C19-83D9-4D0C-A50F-17AD5625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BF8CF-B876-4F70-B86B-D5D57015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43B01-4E93-41E6-96DC-A828177C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E218F-3376-426B-A5BA-D9840069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15D60-43A4-46F1-BAB4-2AF5C2B2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1B73C-F02F-4DD9-94E6-91312C56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5EF5B-FABF-4189-A43A-0815FBD4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C643F-C134-4FFF-9BAA-CB905234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F086F-C596-43E1-9554-5BE3D6C2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45.xml"/><Relationship Id="rId10" Type="http://schemas.openxmlformats.org/officeDocument/2006/relationships/slideLayout" Target="../slideLayouts/slideLayout146.xml"/><Relationship Id="rId11" Type="http://schemas.openxmlformats.org/officeDocument/2006/relationships/slideLayout" Target="../slideLayouts/slideLayout147.xml"/><Relationship Id="rId12" Type="http://schemas.openxmlformats.org/officeDocument/2006/relationships/slideLayout" Target="../slideLayouts/slideLayout148.xml"/><Relationship Id="rId13" Type="http://schemas.openxmlformats.org/officeDocument/2006/relationships/slideLayout" Target="../slideLayouts/slideLayout149.xml"/><Relationship Id="rId14" Type="http://schemas.openxmlformats.org/officeDocument/2006/relationships/slideLayout" Target="../slideLayouts/slideLayout150.xml"/><Relationship Id="rId15" Type="http://schemas.openxmlformats.org/officeDocument/2006/relationships/slideLayout" Target="../slideLayouts/slideLayout151.xml"/><Relationship Id="rId16" Type="http://schemas.openxmlformats.org/officeDocument/2006/relationships/slideLayout" Target="../slideLayouts/slideLayout152.xml"/><Relationship Id="rId17" Type="http://schemas.openxmlformats.org/officeDocument/2006/relationships/slideLayout" Target="../slideLayouts/slideLayout153.xml"/><Relationship Id="rId18" Type="http://schemas.openxmlformats.org/officeDocument/2006/relationships/slideLayout" Target="../slideLayouts/slideLayout154.xml"/><Relationship Id="rId19" Type="http://schemas.openxmlformats.org/officeDocument/2006/relationships/slideLayout" Target="../slideLayouts/slideLayout155.xml"/><Relationship Id="rId20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81.xml"/><Relationship Id="rId10" Type="http://schemas.openxmlformats.org/officeDocument/2006/relationships/slideLayout" Target="../slideLayouts/slideLayout182.xml"/><Relationship Id="rId11" Type="http://schemas.openxmlformats.org/officeDocument/2006/relationships/slideLayout" Target="../slideLayouts/slideLayout183.xml"/><Relationship Id="rId12" Type="http://schemas.openxmlformats.org/officeDocument/2006/relationships/slideLayout" Target="../slideLayouts/slideLayout184.xml"/><Relationship Id="rId13" Type="http://schemas.openxmlformats.org/officeDocument/2006/relationships/slideLayout" Target="../slideLayouts/slideLayout185.xml"/><Relationship Id="rId14" Type="http://schemas.openxmlformats.org/officeDocument/2006/relationships/slideLayout" Target="../slideLayouts/slideLayout186.xml"/><Relationship Id="rId15" Type="http://schemas.openxmlformats.org/officeDocument/2006/relationships/slideLayout" Target="../slideLayouts/slideLayout187.xml"/><Relationship Id="rId16" Type="http://schemas.openxmlformats.org/officeDocument/2006/relationships/slideLayout" Target="../slideLayouts/slideLayout188.xml"/><Relationship Id="rId17" Type="http://schemas.openxmlformats.org/officeDocument/2006/relationships/slideLayout" Target="../slideLayouts/slideLayout189.xml"/><Relationship Id="rId18" Type="http://schemas.openxmlformats.org/officeDocument/2006/relationships/slideLayout" Target="../slideLayouts/slideLayout190.xml"/><Relationship Id="rId19" Type="http://schemas.openxmlformats.org/officeDocument/2006/relationships/slideLayout" Target="../slideLayouts/slideLayout191.xml"/><Relationship Id="rId20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17.xml"/><Relationship Id="rId10" Type="http://schemas.openxmlformats.org/officeDocument/2006/relationships/slideLayout" Target="../slideLayouts/slideLayout218.xml"/><Relationship Id="rId11" Type="http://schemas.openxmlformats.org/officeDocument/2006/relationships/slideLayout" Target="../slideLayouts/slideLayout219.xml"/><Relationship Id="rId12" Type="http://schemas.openxmlformats.org/officeDocument/2006/relationships/slideLayout" Target="../slideLayouts/slideLayout220.xml"/><Relationship Id="rId13" Type="http://schemas.openxmlformats.org/officeDocument/2006/relationships/slideLayout" Target="../slideLayouts/slideLayout221.xml"/><Relationship Id="rId14" Type="http://schemas.openxmlformats.org/officeDocument/2006/relationships/slideLayout" Target="../slideLayouts/slideLayout222.xml"/><Relationship Id="rId15" Type="http://schemas.openxmlformats.org/officeDocument/2006/relationships/slideLayout" Target="../slideLayouts/slideLayout223.xml"/><Relationship Id="rId16" Type="http://schemas.openxmlformats.org/officeDocument/2006/relationships/slideLayout" Target="../slideLayouts/slideLayout224.xml"/><Relationship Id="rId17" Type="http://schemas.openxmlformats.org/officeDocument/2006/relationships/slideLayout" Target="../slideLayouts/slideLayout225.xml"/><Relationship Id="rId18" Type="http://schemas.openxmlformats.org/officeDocument/2006/relationships/slideLayout" Target="../slideLayouts/slideLayout226.xml"/><Relationship Id="rId19" Type="http://schemas.openxmlformats.org/officeDocument/2006/relationships/slideLayout" Target="../slideLayouts/slideLayout227.xml"/><Relationship Id="rId20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3.xml"/><Relationship Id="rId10" Type="http://schemas.openxmlformats.org/officeDocument/2006/relationships/slideLayout" Target="../slideLayouts/slideLayout254.xml"/><Relationship Id="rId11" Type="http://schemas.openxmlformats.org/officeDocument/2006/relationships/slideLayout" Target="../slideLayouts/slideLayout255.xml"/><Relationship Id="rId12" Type="http://schemas.openxmlformats.org/officeDocument/2006/relationships/slideLayout" Target="../slideLayouts/slideLayout256.xml"/><Relationship Id="rId13" Type="http://schemas.openxmlformats.org/officeDocument/2006/relationships/slideLayout" Target="../slideLayouts/slideLayout257.xml"/><Relationship Id="rId14" Type="http://schemas.openxmlformats.org/officeDocument/2006/relationships/slideLayout" Target="../slideLayouts/slideLayout258.xml"/><Relationship Id="rId15" Type="http://schemas.openxmlformats.org/officeDocument/2006/relationships/slideLayout" Target="../slideLayouts/slideLayout259.xml"/><Relationship Id="rId16" Type="http://schemas.openxmlformats.org/officeDocument/2006/relationships/slideLayout" Target="../slideLayouts/slideLayout260.xml"/><Relationship Id="rId17" Type="http://schemas.openxmlformats.org/officeDocument/2006/relationships/slideLayout" Target="../slideLayouts/slideLayout261.xml"/><Relationship Id="rId18" Type="http://schemas.openxmlformats.org/officeDocument/2006/relationships/slideLayout" Target="../slideLayouts/slideLayout262.xml"/><Relationship Id="rId19" Type="http://schemas.openxmlformats.org/officeDocument/2006/relationships/slideLayout" Target="../slideLayouts/slideLayout263.xml"/><Relationship Id="rId20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77.xml"/><Relationship Id="rId7" Type="http://schemas.openxmlformats.org/officeDocument/2006/relationships/slideLayout" Target="../slideLayouts/slideLayout278.xml"/><Relationship Id="rId8" Type="http://schemas.openxmlformats.org/officeDocument/2006/relationships/slideLayout" Target="../slideLayouts/slideLayout279.xml"/><Relationship Id="rId9" Type="http://schemas.openxmlformats.org/officeDocument/2006/relationships/slideLayout" Target="../slideLayouts/slideLayout280.xml"/><Relationship Id="rId10" Type="http://schemas.openxmlformats.org/officeDocument/2006/relationships/slideLayout" Target="../slideLayouts/slideLayout281.xml"/><Relationship Id="rId11" Type="http://schemas.openxmlformats.org/officeDocument/2006/relationships/slideLayout" Target="../slideLayouts/slideLayout282.xml"/><Relationship Id="rId12" Type="http://schemas.openxmlformats.org/officeDocument/2006/relationships/slideLayout" Target="../slideLayouts/slideLayout283.xml"/><Relationship Id="rId13" Type="http://schemas.openxmlformats.org/officeDocument/2006/relationships/slideLayout" Target="../slideLayouts/slideLayout284.xml"/><Relationship Id="rId14" Type="http://schemas.openxmlformats.org/officeDocument/2006/relationships/slideLayout" Target="../slideLayouts/slideLayout285.xml"/><Relationship Id="rId15" Type="http://schemas.openxmlformats.org/officeDocument/2006/relationships/slideLayout" Target="../slideLayouts/slideLayout286.xml"/><Relationship Id="rId16" Type="http://schemas.openxmlformats.org/officeDocument/2006/relationships/slideLayout" Target="../slideLayouts/slideLayout287.xml"/><Relationship Id="rId17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89.xml"/><Relationship Id="rId10" Type="http://schemas.openxmlformats.org/officeDocument/2006/relationships/slideLayout" Target="../slideLayouts/slideLayout290.xml"/><Relationship Id="rId11" Type="http://schemas.openxmlformats.org/officeDocument/2006/relationships/slideLayout" Target="../slideLayouts/slideLayout291.xml"/><Relationship Id="rId12" Type="http://schemas.openxmlformats.org/officeDocument/2006/relationships/slideLayout" Target="../slideLayouts/slideLayout292.xml"/><Relationship Id="rId13" Type="http://schemas.openxmlformats.org/officeDocument/2006/relationships/slideLayout" Target="../slideLayouts/slideLayout293.xml"/><Relationship Id="rId14" Type="http://schemas.openxmlformats.org/officeDocument/2006/relationships/slideLayout" Target="../slideLayouts/slideLayout294.xml"/><Relationship Id="rId15" Type="http://schemas.openxmlformats.org/officeDocument/2006/relationships/slideLayout" Target="../slideLayouts/slideLayout295.xml"/><Relationship Id="rId16" Type="http://schemas.openxmlformats.org/officeDocument/2006/relationships/slideLayout" Target="../slideLayouts/slideLayout296.xml"/><Relationship Id="rId17" Type="http://schemas.openxmlformats.org/officeDocument/2006/relationships/slideLayout" Target="../slideLayouts/slideLayout297.xml"/><Relationship Id="rId18" Type="http://schemas.openxmlformats.org/officeDocument/2006/relationships/slideLayout" Target="../slideLayouts/slideLayout298.xml"/><Relationship Id="rId19" Type="http://schemas.openxmlformats.org/officeDocument/2006/relationships/slideLayout" Target="../slideLayouts/slideLayout299.xml"/><Relationship Id="rId20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01.xml"/><Relationship Id="rId7" Type="http://schemas.openxmlformats.org/officeDocument/2006/relationships/slideLayout" Target="../slideLayouts/slideLayout302.xml"/><Relationship Id="rId8" Type="http://schemas.openxmlformats.org/officeDocument/2006/relationships/slideLayout" Target="../slideLayouts/slideLayout303.xml"/><Relationship Id="rId9" Type="http://schemas.openxmlformats.org/officeDocument/2006/relationships/slideLayout" Target="../slideLayouts/slideLayout304.xml"/><Relationship Id="rId10" Type="http://schemas.openxmlformats.org/officeDocument/2006/relationships/slideLayout" Target="../slideLayouts/slideLayout305.xml"/><Relationship Id="rId11" Type="http://schemas.openxmlformats.org/officeDocument/2006/relationships/slideLayout" Target="../slideLayouts/slideLayout306.xml"/><Relationship Id="rId12" Type="http://schemas.openxmlformats.org/officeDocument/2006/relationships/slideLayout" Target="../slideLayouts/slideLayout307.xml"/><Relationship Id="rId13" Type="http://schemas.openxmlformats.org/officeDocument/2006/relationships/slideLayout" Target="../slideLayouts/slideLayout308.xml"/><Relationship Id="rId14" Type="http://schemas.openxmlformats.org/officeDocument/2006/relationships/slideLayout" Target="../slideLayouts/slideLayout309.xml"/><Relationship Id="rId15" Type="http://schemas.openxmlformats.org/officeDocument/2006/relationships/slideLayout" Target="../slideLayouts/slideLayout310.xml"/><Relationship Id="rId16" Type="http://schemas.openxmlformats.org/officeDocument/2006/relationships/slideLayout" Target="../slideLayouts/slideLayout311.xml"/><Relationship Id="rId17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13.xml"/><Relationship Id="rId7" Type="http://schemas.openxmlformats.org/officeDocument/2006/relationships/slideLayout" Target="../slideLayouts/slideLayout314.xml"/><Relationship Id="rId8" Type="http://schemas.openxmlformats.org/officeDocument/2006/relationships/slideLayout" Target="../slideLayouts/slideLayout315.xml"/><Relationship Id="rId9" Type="http://schemas.openxmlformats.org/officeDocument/2006/relationships/slideLayout" Target="../slideLayouts/slideLayout316.xml"/><Relationship Id="rId10" Type="http://schemas.openxmlformats.org/officeDocument/2006/relationships/slideLayout" Target="../slideLayouts/slideLayout317.xml"/><Relationship Id="rId11" Type="http://schemas.openxmlformats.org/officeDocument/2006/relationships/slideLayout" Target="../slideLayouts/slideLayout318.xml"/><Relationship Id="rId12" Type="http://schemas.openxmlformats.org/officeDocument/2006/relationships/slideLayout" Target="../slideLayouts/slideLayout319.xml"/><Relationship Id="rId13" Type="http://schemas.openxmlformats.org/officeDocument/2006/relationships/slideLayout" Target="../slideLayouts/slideLayout320.xml"/><Relationship Id="rId14" Type="http://schemas.openxmlformats.org/officeDocument/2006/relationships/slideLayout" Target="../slideLayouts/slideLayout321.xml"/><Relationship Id="rId15" Type="http://schemas.openxmlformats.org/officeDocument/2006/relationships/slideLayout" Target="../slideLayouts/slideLayout322.xml"/><Relationship Id="rId16" Type="http://schemas.openxmlformats.org/officeDocument/2006/relationships/slideLayout" Target="../slideLayouts/slideLayout323.xml"/><Relationship Id="rId17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25.xml"/><Relationship Id="rId10" Type="http://schemas.openxmlformats.org/officeDocument/2006/relationships/slideLayout" Target="../slideLayouts/slideLayout326.xml"/><Relationship Id="rId11" Type="http://schemas.openxmlformats.org/officeDocument/2006/relationships/slideLayout" Target="../slideLayouts/slideLayout327.xml"/><Relationship Id="rId12" Type="http://schemas.openxmlformats.org/officeDocument/2006/relationships/slideLayout" Target="../slideLayouts/slideLayout328.xml"/><Relationship Id="rId13" Type="http://schemas.openxmlformats.org/officeDocument/2006/relationships/slideLayout" Target="../slideLayouts/slideLayout329.xml"/><Relationship Id="rId14" Type="http://schemas.openxmlformats.org/officeDocument/2006/relationships/slideLayout" Target="../slideLayouts/slideLayout330.xml"/><Relationship Id="rId15" Type="http://schemas.openxmlformats.org/officeDocument/2006/relationships/slideLayout" Target="../slideLayouts/slideLayout331.xml"/><Relationship Id="rId16" Type="http://schemas.openxmlformats.org/officeDocument/2006/relationships/slideLayout" Target="../slideLayouts/slideLayout332.xml"/><Relationship Id="rId17" Type="http://schemas.openxmlformats.org/officeDocument/2006/relationships/slideLayout" Target="../slideLayouts/slideLayout333.xml"/><Relationship Id="rId18" Type="http://schemas.openxmlformats.org/officeDocument/2006/relationships/slideLayout" Target="../slideLayouts/slideLayout334.xml"/><Relationship Id="rId19" Type="http://schemas.openxmlformats.org/officeDocument/2006/relationships/slideLayout" Target="../slideLayouts/slideLayout335.xml"/><Relationship Id="rId20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37.xml"/><Relationship Id="rId7" Type="http://schemas.openxmlformats.org/officeDocument/2006/relationships/slideLayout" Target="../slideLayouts/slideLayout338.xml"/><Relationship Id="rId8" Type="http://schemas.openxmlformats.org/officeDocument/2006/relationships/slideLayout" Target="../slideLayouts/slideLayout339.xml"/><Relationship Id="rId9" Type="http://schemas.openxmlformats.org/officeDocument/2006/relationships/slideLayout" Target="../slideLayouts/slideLayout340.xml"/><Relationship Id="rId10" Type="http://schemas.openxmlformats.org/officeDocument/2006/relationships/slideLayout" Target="../slideLayouts/slideLayout341.xml"/><Relationship Id="rId11" Type="http://schemas.openxmlformats.org/officeDocument/2006/relationships/slideLayout" Target="../slideLayouts/slideLayout342.xml"/><Relationship Id="rId12" Type="http://schemas.openxmlformats.org/officeDocument/2006/relationships/slideLayout" Target="../slideLayouts/slideLayout343.xml"/><Relationship Id="rId13" Type="http://schemas.openxmlformats.org/officeDocument/2006/relationships/slideLayout" Target="../slideLayouts/slideLayout344.xml"/><Relationship Id="rId14" Type="http://schemas.openxmlformats.org/officeDocument/2006/relationships/slideLayout" Target="../slideLayouts/slideLayout345.xml"/><Relationship Id="rId15" Type="http://schemas.openxmlformats.org/officeDocument/2006/relationships/slideLayout" Target="../slideLayouts/slideLayout346.xml"/><Relationship Id="rId16" Type="http://schemas.openxmlformats.org/officeDocument/2006/relationships/slideLayout" Target="../slideLayouts/slideLayout347.xml"/><Relationship Id="rId17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49.xml"/><Relationship Id="rId7" Type="http://schemas.openxmlformats.org/officeDocument/2006/relationships/slideLayout" Target="../slideLayouts/slideLayout350.xml"/><Relationship Id="rId8" Type="http://schemas.openxmlformats.org/officeDocument/2006/relationships/slideLayout" Target="../slideLayouts/slideLayout351.xml"/><Relationship Id="rId9" Type="http://schemas.openxmlformats.org/officeDocument/2006/relationships/slideLayout" Target="../slideLayouts/slideLayout352.xml"/><Relationship Id="rId10" Type="http://schemas.openxmlformats.org/officeDocument/2006/relationships/slideLayout" Target="../slideLayouts/slideLayout353.xml"/><Relationship Id="rId11" Type="http://schemas.openxmlformats.org/officeDocument/2006/relationships/slideLayout" Target="../slideLayouts/slideLayout354.xml"/><Relationship Id="rId12" Type="http://schemas.openxmlformats.org/officeDocument/2006/relationships/slideLayout" Target="../slideLayouts/slideLayout355.xml"/><Relationship Id="rId13" Type="http://schemas.openxmlformats.org/officeDocument/2006/relationships/slideLayout" Target="../slideLayouts/slideLayout356.xml"/><Relationship Id="rId14" Type="http://schemas.openxmlformats.org/officeDocument/2006/relationships/slideLayout" Target="../slideLayouts/slideLayout357.xml"/><Relationship Id="rId15" Type="http://schemas.openxmlformats.org/officeDocument/2006/relationships/slideLayout" Target="../slideLayouts/slideLayout358.xml"/><Relationship Id="rId16" Type="http://schemas.openxmlformats.org/officeDocument/2006/relationships/slideLayout" Target="../slideLayouts/slideLayout359.xml"/><Relationship Id="rId17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61.xml"/><Relationship Id="rId10" Type="http://schemas.openxmlformats.org/officeDocument/2006/relationships/slideLayout" Target="../slideLayouts/slideLayout362.xml"/><Relationship Id="rId11" Type="http://schemas.openxmlformats.org/officeDocument/2006/relationships/slideLayout" Target="../slideLayouts/slideLayout363.xml"/><Relationship Id="rId12" Type="http://schemas.openxmlformats.org/officeDocument/2006/relationships/slideLayout" Target="../slideLayouts/slideLayout364.xml"/><Relationship Id="rId13" Type="http://schemas.openxmlformats.org/officeDocument/2006/relationships/slideLayout" Target="../slideLayouts/slideLayout365.xml"/><Relationship Id="rId14" Type="http://schemas.openxmlformats.org/officeDocument/2006/relationships/slideLayout" Target="../slideLayouts/slideLayout366.xml"/><Relationship Id="rId15" Type="http://schemas.openxmlformats.org/officeDocument/2006/relationships/slideLayout" Target="../slideLayouts/slideLayout367.xml"/><Relationship Id="rId16" Type="http://schemas.openxmlformats.org/officeDocument/2006/relationships/slideLayout" Target="../slideLayouts/slideLayout368.xml"/><Relationship Id="rId17" Type="http://schemas.openxmlformats.org/officeDocument/2006/relationships/slideLayout" Target="../slideLayouts/slideLayout369.xml"/><Relationship Id="rId18" Type="http://schemas.openxmlformats.org/officeDocument/2006/relationships/slideLayout" Target="../slideLayouts/slideLayout370.xml"/><Relationship Id="rId19" Type="http://schemas.openxmlformats.org/officeDocument/2006/relationships/slideLayout" Target="../slideLayouts/slideLayout371.xml"/><Relationship Id="rId20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3.xml"/><Relationship Id="rId7" Type="http://schemas.openxmlformats.org/officeDocument/2006/relationships/slideLayout" Target="../slideLayouts/slideLayout374.xml"/><Relationship Id="rId8" Type="http://schemas.openxmlformats.org/officeDocument/2006/relationships/slideLayout" Target="../slideLayouts/slideLayout375.xml"/><Relationship Id="rId9" Type="http://schemas.openxmlformats.org/officeDocument/2006/relationships/slideLayout" Target="../slideLayouts/slideLayout376.xml"/><Relationship Id="rId10" Type="http://schemas.openxmlformats.org/officeDocument/2006/relationships/slideLayout" Target="../slideLayouts/slideLayout377.xml"/><Relationship Id="rId11" Type="http://schemas.openxmlformats.org/officeDocument/2006/relationships/slideLayout" Target="../slideLayouts/slideLayout378.xml"/><Relationship Id="rId12" Type="http://schemas.openxmlformats.org/officeDocument/2006/relationships/slideLayout" Target="../slideLayouts/slideLayout379.xml"/><Relationship Id="rId13" Type="http://schemas.openxmlformats.org/officeDocument/2006/relationships/slideLayout" Target="../slideLayouts/slideLayout380.xml"/><Relationship Id="rId14" Type="http://schemas.openxmlformats.org/officeDocument/2006/relationships/slideLayout" Target="../slideLayouts/slideLayout381.xml"/><Relationship Id="rId15" Type="http://schemas.openxmlformats.org/officeDocument/2006/relationships/slideLayout" Target="../slideLayouts/slideLayout382.xml"/><Relationship Id="rId16" Type="http://schemas.openxmlformats.org/officeDocument/2006/relationships/slideLayout" Target="../slideLayouts/slideLayout383.xml"/><Relationship Id="rId17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0A1A-E331-4C67-BF93-3B00B6FF0E5A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460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2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63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5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6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67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9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470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2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473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5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6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77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E375-938E-4CDE-9305-EEA7CC9A52E7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3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24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6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7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28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6D26-7284-47DA-BCD8-0DA3ACDB6096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7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7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7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7C47-B336-43B4-89A8-2D00C4BEC13B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62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62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3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63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63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4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A1EB-8584-4E2A-B185-F8AEAE06D7B9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9"/>
    <p:sldLayoutId id="2147483806" r:id="rId10"/>
    <p:sldLayoutId id="2147483807" r:id="rId11"/>
    <p:sldLayoutId id="2147483808" r:id="rId12"/>
    <p:sldLayoutId id="2147483809" r:id="rId13"/>
    <p:sldLayoutId id="2147483810" r:id="rId14"/>
    <p:sldLayoutId id="2147483811" r:id="rId15"/>
    <p:sldLayoutId id="2147483812" r:id="rId16"/>
    <p:sldLayoutId id="2147483813" r:id="rId17"/>
    <p:sldLayoutId id="2147483814" r:id="rId18"/>
    <p:sldLayoutId id="2147483815" r:id="rId19"/>
    <p:sldLayoutId id="2147483816" r:id="rId20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68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68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9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4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4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F72E-28EC-4017-84D6-2D5F867CA89C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735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738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0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1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742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dt" idx="4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ftr" idx="4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sldNum" idx="4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E0BF-9FA7-4F37-AD39-8237728C240D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78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78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79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5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796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8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799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1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03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4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4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4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8124-1083-41C4-8C3F-821E69AD6C7A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9"/>
    <p:sldLayoutId id="2147483845" r:id="rId10"/>
    <p:sldLayoutId id="2147483846" r:id="rId11"/>
    <p:sldLayoutId id="2147483847" r:id="rId12"/>
    <p:sldLayoutId id="2147483848" r:id="rId13"/>
    <p:sldLayoutId id="2147483849" r:id="rId14"/>
    <p:sldLayoutId id="2147483850" r:id="rId15"/>
    <p:sldLayoutId id="2147483851" r:id="rId16"/>
    <p:sldLayoutId id="2147483852" r:id="rId17"/>
    <p:sldLayoutId id="2147483853" r:id="rId18"/>
    <p:sldLayoutId id="2147483854" r:id="rId19"/>
    <p:sldLayoutId id="2147483855" r:id="rId20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84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850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2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3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54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4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5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D6D7-06AC-4554-84BF-7EEE4860182C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898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0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901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3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4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905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dt" idx="5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ftr" idx="5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sldNum" idx="5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708F-868E-416E-BCE2-5CB7721CC937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94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1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952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5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956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8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959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1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962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4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5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966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5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5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5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009A-4925-41B9-B24D-ED5A7783AB07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9"/>
    <p:sldLayoutId id="2147483884" r:id="rId10"/>
    <p:sldLayoutId id="2147483885" r:id="rId11"/>
    <p:sldLayoutId id="2147483886" r:id="rId12"/>
    <p:sldLayoutId id="2147483887" r:id="rId13"/>
    <p:sldLayoutId id="2147483888" r:id="rId14"/>
    <p:sldLayoutId id="2147483889" r:id="rId15"/>
    <p:sldLayoutId id="2147483890" r:id="rId16"/>
    <p:sldLayoutId id="2147483891" r:id="rId17"/>
    <p:sldLayoutId id="2147483892" r:id="rId18"/>
    <p:sldLayoutId id="2147483893" r:id="rId19"/>
    <p:sldLayoutId id="2147483894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F4FF-A32E-4002-84DB-0FD4AD6E0696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010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2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013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4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5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6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017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 type="dt" idx="5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 type="ftr" idx="5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 type="sldNum" idx="6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3B64-92A6-4E50-9D74-FFE844246C2A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0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061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3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064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5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6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7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068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6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6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6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6021-E2CB-4743-A5E6-00BFB2463944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11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11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1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1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22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4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25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7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29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 type="dt" idx="6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 type="ftr" idx="6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 type="sldNum" idx="6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61EE-C316-4FD4-BB56-06E32A7CF3BC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9"/>
    <p:sldLayoutId id="2147483923" r:id="rId10"/>
    <p:sldLayoutId id="2147483924" r:id="rId11"/>
    <p:sldLayoutId id="2147483925" r:id="rId12"/>
    <p:sldLayoutId id="2147483926" r:id="rId13"/>
    <p:sldLayoutId id="2147483927" r:id="rId14"/>
    <p:sldLayoutId id="2147483928" r:id="rId15"/>
    <p:sldLayoutId id="2147483929" r:id="rId16"/>
    <p:sldLayoutId id="2147483930" r:id="rId17"/>
    <p:sldLayoutId id="2147483931" r:id="rId18"/>
    <p:sldLayoutId id="2147483932" r:id="rId19"/>
    <p:sldLayoutId id="2147483933" r:id="rId20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2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7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5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76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8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9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80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 type="dt" idx="6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 type="ftr" idx="6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 type="sldNum" idx="6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6378-FAF2-4B62-B21A-B4BD503888EE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22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6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22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0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3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7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7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7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F615-849C-4A5A-B292-4DC6B8BA4F7B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6"/>
    <p:sldLayoutId id="2147483949" r:id="rId7"/>
    <p:sldLayoutId id="2147483950" r:id="rId8"/>
    <p:sldLayoutId id="2147483951" r:id="rId9"/>
    <p:sldLayoutId id="2147483952" r:id="rId10"/>
    <p:sldLayoutId id="2147483953" r:id="rId11"/>
    <p:sldLayoutId id="2147483954" r:id="rId12"/>
    <p:sldLayoutId id="2147483955" r:id="rId13"/>
    <p:sldLayoutId id="2147483956" r:id="rId14"/>
    <p:sldLayoutId id="2147483957" r:id="rId15"/>
    <p:sldLayoutId id="2147483958" r:id="rId16"/>
    <p:sldLayoutId id="2147483959" r:id="rId17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27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27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8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4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285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7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288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0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92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 type="dt" idx="7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 type="ftr" idx="7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 type="sldNum" idx="7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2F19-6472-4A84-AA08-BB6D65F83B12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9"/>
    <p:sldLayoutId id="2147483962" r:id="rId10"/>
    <p:sldLayoutId id="2147483963" r:id="rId11"/>
    <p:sldLayoutId id="2147483964" r:id="rId12"/>
    <p:sldLayoutId id="2147483965" r:id="rId13"/>
    <p:sldLayoutId id="2147483966" r:id="rId14"/>
    <p:sldLayoutId id="2147483967" r:id="rId15"/>
    <p:sldLayoutId id="2147483968" r:id="rId16"/>
    <p:sldLayoutId id="2147483969" r:id="rId17"/>
    <p:sldLayoutId id="2147483970" r:id="rId18"/>
    <p:sldLayoutId id="2147483971" r:id="rId19"/>
    <p:sldLayoutId id="2147483972" r:id="rId20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5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33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8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339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0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1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2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343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 type="dt" idx="7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 type="ftr" idx="7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 type="sldNum" idx="7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A30E-C5F8-481D-95AA-9B9F84DF3742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6"/>
    <p:sldLayoutId id="2147483975" r:id="rId7"/>
    <p:sldLayoutId id="2147483976" r:id="rId8"/>
    <p:sldLayoutId id="2147483977" r:id="rId9"/>
    <p:sldLayoutId id="2147483978" r:id="rId10"/>
    <p:sldLayoutId id="2147483979" r:id="rId11"/>
    <p:sldLayoutId id="2147483980" r:id="rId12"/>
    <p:sldLayoutId id="2147483981" r:id="rId13"/>
    <p:sldLayoutId id="2147483982" r:id="rId14"/>
    <p:sldLayoutId id="2147483983" r:id="rId15"/>
    <p:sldLayoutId id="2147483984" r:id="rId16"/>
    <p:sldLayoutId id="2147483985" r:id="rId17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6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387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9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390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1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2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3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394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7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8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8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CCBE-0B70-4883-A345-1863F1C8F140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6"/>
    <p:sldLayoutId id="2147483988" r:id="rId7"/>
    <p:sldLayoutId id="2147483989" r:id="rId8"/>
    <p:sldLayoutId id="2147483990" r:id="rId9"/>
    <p:sldLayoutId id="2147483991" r:id="rId10"/>
    <p:sldLayoutId id="2147483992" r:id="rId11"/>
    <p:sldLayoutId id="2147483993" r:id="rId12"/>
    <p:sldLayoutId id="2147483994" r:id="rId13"/>
    <p:sldLayoutId id="2147483995" r:id="rId14"/>
    <p:sldLayoutId id="2147483996" r:id="rId15"/>
    <p:sldLayoutId id="2147483997" r:id="rId16"/>
    <p:sldLayoutId id="2147483998" r:id="rId17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7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43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9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0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441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4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445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7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448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0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451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2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3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4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455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dt" idx="8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ftr" idx="8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sldNum" idx="8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1722-A1C0-4C0F-983F-80FCC49D50A8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9"/>
    <p:sldLayoutId id="2147484001" r:id="rId10"/>
    <p:sldLayoutId id="2147484002" r:id="rId11"/>
    <p:sldLayoutId id="2147484003" r:id="rId12"/>
    <p:sldLayoutId id="2147484004" r:id="rId13"/>
    <p:sldLayoutId id="2147484005" r:id="rId14"/>
    <p:sldLayoutId id="2147484006" r:id="rId15"/>
    <p:sldLayoutId id="2147484007" r:id="rId16"/>
    <p:sldLayoutId id="2147484008" r:id="rId17"/>
    <p:sldLayoutId id="2147484009" r:id="rId18"/>
    <p:sldLayoutId id="2147484010" r:id="rId19"/>
    <p:sldLayoutId id="2147484011" r:id="rId20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8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499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1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02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3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4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5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06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 type="dt" idx="8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 type="ftr" idx="8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 type="sldNum" idx="8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011E-4ED5-4CEB-A455-DC37BAFB1D54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6"/>
    <p:sldLayoutId id="2147484014" r:id="rId7"/>
    <p:sldLayoutId id="2147484015" r:id="rId8"/>
    <p:sldLayoutId id="2147484016" r:id="rId9"/>
    <p:sldLayoutId id="2147484017" r:id="rId10"/>
    <p:sldLayoutId id="2147484018" r:id="rId11"/>
    <p:sldLayoutId id="2147484019" r:id="rId12"/>
    <p:sldLayoutId id="2147484020" r:id="rId13"/>
    <p:sldLayoutId id="2147484021" r:id="rId14"/>
    <p:sldLayoutId id="2147484022" r:id="rId15"/>
    <p:sldLayoutId id="2147484023" r:id="rId16"/>
    <p:sldLayoutId id="2147484024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D978-E506-4989-BAA5-94615F2475EF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9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50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2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3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4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5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6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57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 type="dt" idx="8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 type="ftr" idx="8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 type="sldNum" idx="9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EF16-A609-4C18-A887-141EBCA2AF2D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6"/>
    <p:sldLayoutId id="2147484027" r:id="rId7"/>
    <p:sldLayoutId id="2147484028" r:id="rId8"/>
    <p:sldLayoutId id="2147484029" r:id="rId9"/>
    <p:sldLayoutId id="2147484030" r:id="rId10"/>
    <p:sldLayoutId id="2147484031" r:id="rId11"/>
    <p:sldLayoutId id="2147484032" r:id="rId12"/>
    <p:sldLayoutId id="2147484033" r:id="rId13"/>
    <p:sldLayoutId id="2147484034" r:id="rId14"/>
    <p:sldLayoutId id="2147484035" r:id="rId15"/>
    <p:sldLayoutId id="2147484036" r:id="rId16"/>
    <p:sldLayoutId id="2147484037" r:id="rId17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60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60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60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0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11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2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3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14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5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6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618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 type="dt" idx="9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 type="ftr" idx="9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 type="sldNum" idx="9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BD04-8EB7-41F8-9C42-EC7EF87DA920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9"/>
    <p:sldLayoutId id="2147484040" r:id="rId10"/>
    <p:sldLayoutId id="2147484041" r:id="rId11"/>
    <p:sldLayoutId id="2147484042" r:id="rId12"/>
    <p:sldLayoutId id="2147484043" r:id="rId13"/>
    <p:sldLayoutId id="2147484044" r:id="rId14"/>
    <p:sldLayoutId id="2147484045" r:id="rId15"/>
    <p:sldLayoutId id="2147484046" r:id="rId16"/>
    <p:sldLayoutId id="2147484047" r:id="rId17"/>
    <p:sldLayoutId id="2147484048" r:id="rId18"/>
    <p:sldLayoutId id="2147484049" r:id="rId19"/>
    <p:sldLayoutId id="2147484050" r:id="rId20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1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62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4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65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7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8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669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 type="dt" idx="9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 type="ftr" idx="9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 type="sldNum" idx="9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06D6-84D3-4AEB-8345-98A090D69C37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6"/>
    <p:sldLayoutId id="2147484053" r:id="rId7"/>
    <p:sldLayoutId id="2147484054" r:id="rId8"/>
    <p:sldLayoutId id="2147484055" r:id="rId9"/>
    <p:sldLayoutId id="2147484056" r:id="rId10"/>
    <p:sldLayoutId id="2147484057" r:id="rId11"/>
    <p:sldLayoutId id="2147484058" r:id="rId12"/>
    <p:sldLayoutId id="2147484059" r:id="rId13"/>
    <p:sldLayoutId id="2147484060" r:id="rId14"/>
    <p:sldLayoutId id="2147484061" r:id="rId15"/>
    <p:sldLayoutId id="2147484062" r:id="rId16"/>
    <p:sldLayoutId id="2147484063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5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5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6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6328-3C5B-4EA6-8795-F429EE23FD01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DEFD-C6CC-4A4B-AD88-E8FCEA57A913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5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5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6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8D17-597A-4A4B-A228-DCCA718944E8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30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310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2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3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14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3611-7426-4BCB-BFA7-807291B2F09C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35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361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4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65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24C7-FA43-4CAC-BADF-C07A666BAC16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409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1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412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4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5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16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D7FA-3EF4-4157-B6E2-7EC9864E99BB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"/>
          <p:cNvSpPr txBox="1"/>
          <p:nvPr/>
        </p:nvSpPr>
        <p:spPr>
          <a:xfrm>
            <a:off x="108000" y="260280"/>
            <a:ext cx="9036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ма:Каналы связи и их характеристики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РОП№1. Определения понятий непрерывного, дискретного канала (ДК) и расширенного дискретного канала (РДК) и их основные характеристики. Помехи в каналах связи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1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прерывный канал связи (НКС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входе и выходе НКС – непрерывный сигнал, непрерывного времени. Непрерывный канал связи – это канал ТЧ, стандартный широкополосный канал (60-108 кГц), физическая линия (кабель, волокно, воздушная линия и т. п.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дной из основных характеристик непрерывного канала является его пропускная способност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руктура системы передачи дискретных сообщений Структурная схема системы ПДС изображена на рисунке 1.1 Источник и получатель сообщений вместе с преобразователем сообщения в сигнал в состав системы ПДС не входят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дной из основных характеристик непрерывного канала является его пропускная способност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713" name="Picture 2" descr=""/>
          <p:cNvPicPr/>
          <p:nvPr/>
        </p:nvPicPr>
        <p:blipFill>
          <a:blip r:embed="rId2"/>
          <a:stretch/>
        </p:blipFill>
        <p:spPr>
          <a:xfrm>
            <a:off x="468360" y="5394240"/>
            <a:ext cx="3095640" cy="792360"/>
          </a:xfrm>
          <a:prstGeom prst="rect">
            <a:avLst/>
          </a:prstGeom>
          <a:ln w="0">
            <a:noFill/>
          </a:ln>
        </p:spPr>
      </p:pic>
      <p:sp>
        <p:nvSpPr>
          <p:cNvPr id="1714" name="TextBox 3"/>
          <p:cNvSpPr/>
          <p:nvPr/>
        </p:nvSpPr>
        <p:spPr>
          <a:xfrm>
            <a:off x="4284720" y="55897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(2.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"/>
          <p:cNvSpPr txBox="1"/>
          <p:nvPr/>
        </p:nvSpPr>
        <p:spPr>
          <a:xfrm>
            <a:off x="323640" y="18864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2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исунок 1.1. Структурная схема системы передачи дискретных сообщени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716" name="Picture 2" descr="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"/>
          <p:cNvSpPr txBox="1"/>
          <p:nvPr/>
        </p:nvSpPr>
        <p:spPr>
          <a:xfrm>
            <a:off x="250920" y="54900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Кодер источника. Сообщение, поступающее от источника сообщений, в ряде случаев содержит избыточность. Задачу устранения избыточности на передаче в СПДС выполняет кодер источ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дер канала. С целью повышения верности передачи используется избыточное кодирование, позволяющее на приеме обнаруживать или даже исправлять ошибки. Часто кодер и декодер канала называют устройствами защиты от ошибок (УЗО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тройство преобразования сигнала. С целью согласования кодера канала и декодера канала с непрерывным каналом связи используются на передаче и приеме устройства преобразования сигналов (УПС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"/>
          <p:cNvSpPr txBox="1"/>
          <p:nvPr/>
        </p:nvSpPr>
        <p:spPr>
          <a:xfrm>
            <a:off x="324000" y="620280"/>
            <a:ext cx="8208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Непрерывный канал. Это канал связи предназначенный для передачи непрерывных (аналоговых) сигналов. Дискретный канал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вместно с каналом связи УПС образуют дискретный канал, то есть канал, предназначенный для передачи только дискретных сигналов (цифровых сигналов данных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ширенный канал. Дискретный канал в совокупности с кодером и декодером канала (УЗО) называется расширенным дискретным каналом (РДК). В системе ПДС иногда выделяют дискретный канал непрерывного времени. На выходе полунепрерывного канала сигнал является дискретной функцией непрерывного времен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"/>
          <p:cNvSpPr txBox="1"/>
          <p:nvPr/>
        </p:nvSpPr>
        <p:spPr>
          <a:xfrm>
            <a:off x="324000" y="40428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Модель НКС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нал может быть представлен цепью с соответствующей импульсной характеристикой и источниками помех. В канале всегда присутствуют аддитивные гаусовские помехи. Кроме гаусовских в канале действуют помех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армонические (сосредоточенные по частоте)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мпульсные (сосредоточенные по времени)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ультипликативные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ерывы связи (17,4 дБ)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"/>
          <p:cNvSpPr txBox="1"/>
          <p:nvPr/>
        </p:nvSpPr>
        <p:spPr>
          <a:xfrm>
            <a:off x="250560" y="40464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6.К искажениям формы сигнала, также приводят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двиг частотных составляющих по частоте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азовые скачки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азовое дрожание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скретный канал Дискретный канал включает НКС + УПС приема и передачи.  Алфавит ДК состоит из двух сообщений “1” и “0”. Основными характеристиками ДК являются: скорость передачи информации R [бит/с], скорость модуляции B [Бод]. Верность передачи информации характеризуется коэффициентом ошибок по единичным элемента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"/>
          <p:cNvSpPr txBox="1"/>
          <p:nvPr/>
        </p:nvSpPr>
        <p:spPr>
          <a:xfrm>
            <a:off x="394920" y="115560"/>
            <a:ext cx="828036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7.Расширенный дискретный канал Расширенный дискретный канал включает ДК+ Кодер + Декодер канала. Алфавит канала состоит из 2</a:t>
            </a:r>
            <a:r>
              <a:rPr b="0" lang="ru-RU" sz="24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ообщений, где n – число элементов в кодовой комбинаций. РДК характеризуется: коэффициентом ошибок по кодовым комбинациям, эффективной скоростью передачи информации  Основная задача РДК - повышение верности передачи. Методы повышения верности: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ры эксплуатационного и профилактического характера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вышения стабильности работы генераторного оборудования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зервирование электропитания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явление и замена отказавшего оборудования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вышение квалификации обслуживающего персонала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 txBox="1"/>
          <p:nvPr/>
        </p:nvSpPr>
        <p:spPr>
          <a:xfrm>
            <a:off x="250920" y="333360"/>
            <a:ext cx="8424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.Мероприятия по увеличению помехоустойчивости передачи единичных элементов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550"/>
              </a:spcBef>
              <a:buClr>
                <a:srgbClr val="c3260c"/>
              </a:buClr>
              <a:buSzPct val="13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еличение отношения сигнал – помеха (увеличение амплитуды, длительности)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550"/>
              </a:spcBef>
              <a:buClr>
                <a:srgbClr val="c3260c"/>
              </a:buClr>
              <a:buSzPct val="13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нение более помехоустойчивых методов модуляции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вершенствование методов обработки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бор оптимальных сигналов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550"/>
              </a:spcBef>
              <a:buClr>
                <a:srgbClr val="c3260c"/>
              </a:buClr>
              <a:buSzPct val="13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ведение избыточности в передаваемую последовательность т.е. помехоустойчивое кодирование </a:t>
            </a:r>
            <a:r>
              <a:rPr b="0" lang="en-US" sz="2200" spc="-1" strike="noStrike">
                <a:solidFill>
                  <a:srgbClr val="404040"/>
                </a:solidFill>
                <a:latin typeface="Times New Roman"/>
                <a:ea typeface="Calibri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2T10:27:31Z</dcterms:created>
  <dc:creator>Регина</dc:creator>
  <dc:description/>
  <dc:language>en-US</dc:language>
  <cp:lastModifiedBy>student</cp:lastModifiedBy>
  <dcterms:modified xsi:type="dcterms:W3CDTF">2014-05-23T09:14:40Z</dcterms:modified>
  <cp:revision>3</cp:revision>
  <dc:subject/>
  <dc:title>Презентация PowerPoint</dc:title>
</cp:coreProperties>
</file>